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95D6-A866-4D65-9134-B79FFF52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A237-3559-481D-83B8-336FB653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C888-BB4A-4C94-B741-7A2429DB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D3F8-41EF-40FA-9B6D-8D11DCEF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4955-4461-4DAF-AC30-BC33E5F6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97C4-2584-47EC-A642-112EA5F5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89F4-6D5F-4115-8412-9CF88C61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7AFA-0F9D-4D9B-A955-DBC0FD4F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BEC2-D0E6-4BF5-A205-A7D2735C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1F4B-FE17-465E-9052-8513A186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A7B-C792-41F8-8E48-44503A7B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6547-5FD9-4FB6-AA6A-15F2A98E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5107-7E96-481E-BDED-967E0083C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castle&amp;hl=en&amp;safe=strict&amp;gbv=2&amp;biw=1024&amp;bih=533&amp;tbm=isch&amp;tbnid=oMVp4qVZ3eSwmM:&amp;imgrefurl=http://www.hogwild.net/Rants/castle-pictures-edinburgh-castle-ashford-castle-neuschwanstein-castle.htm&amp;docid=8JLquuO44soaWM&amp;imgurl=http://www.hogwild.net/images/Misc/castle-neuschwanstein-castle.jpg&amp;w=370&amp;h=370&amp;ei=lY9fT_vXCKqKsAKR3rCFCA&amp;zoom=1&amp;iact=hc&amp;vpx=752&amp;vpy=145&amp;dur=921&amp;hovh=225&amp;hovw=225&amp;tx=147&amp;ty=100&amp;sig=100501383441446942702&amp;page=1&amp;tbnh=161&amp;tbnw=161&amp;start=0&amp;ndsp=8&amp;ved=1t:429,r:3,s:0" TargetMode="External"/><Relationship Id="rId2" Type="http://schemas.openxmlformats.org/officeDocument/2006/relationships/hyperlink" Target="file:///,s:0" TargetMode="External"/><Relationship Id="rId3" Type="http://schemas.openxmlformats.org/officeDocument/2006/relationships/hyperlink" Target="http://www.chumpysclipart.com/illustration/3206/picture_of_a_pretty_princess_holding_a_handkerchief" TargetMode="External"/><Relationship Id="rId4" Type="http://schemas.openxmlformats.org/officeDocument/2006/relationships/hyperlink" Target="http://www.guppyworks.com/hca_tupd.htm" TargetMode="External"/><Relationship Id="rId5" Type="http://schemas.openxmlformats.org/officeDocument/2006/relationships/hyperlink" Target="http://www.bigstockphoto.com/image-2230450/stock-vector-just-married!-(vector)-cartoon-illustration-of-a-wedding-couple-in-fair-skin-tone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-685800"/>
            <a:ext cx="8381880" cy="8381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8915400" cy="788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0880" y="2819520"/>
            <a:ext cx="8763120" cy="696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324480" y="5638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5715000"/>
            <a:ext cx="2286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nah Fis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8001000" y="533520"/>
            <a:ext cx="326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75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8120" y="1752480"/>
            <a:ext cx="594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Once upon a time there was a first born child of 7 sisters. Her name was Taylor. I like to call her the Not-So Fairytale Princess. Oh my goodness was she ugly. Funny thing is that all other 6 of her sisters were beautiful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l_fi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2459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acfd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19320" y="914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imSun"/>
              </a:rPr>
              <a:t>She lived in a huge castle with her family. They were royalty and Taylor was next up for the throne. She thought she cannot be the queen if she cant find herself a 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l_fi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da1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flipV="1">
            <a:off x="914400" y="2168280"/>
            <a:ext cx="4495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4800600"/>
            <a:ext cx="601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50292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S Mincho"/>
              </a:rPr>
              <a:t>Although Taylor was the oldest girl, all her sisters, Tammie, Terry,Tillie, Tessa, Tyley, and Tixi, were either engaged or married. Poor Taylor, she felt very lone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19520" y="838080"/>
            <a:ext cx="2835000" cy="3733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95680" y="457200"/>
            <a:ext cx="1371600" cy="1219320"/>
          </a:xfrm>
          <a:prstGeom prst="cloudCallout">
            <a:avLst>
              <a:gd name="adj1" fmla="val -45833"/>
              <a:gd name="adj2" fmla="val 7565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m so lonely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2920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269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aa4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029200" y="1905120"/>
            <a:ext cx="3733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Until one day when she met Joe. Joe was not the most attractive person either. He also had 7 brothers, Jimmy, Joseph, Jake, Jack, Jonah, and James who were all getting married or already were. Which I can see why, these brothers were all very handsome. It was as destiny put them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l_fi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038480" cy="3533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" y="990720"/>
            <a:ext cx="1523880" cy="1447560"/>
          </a:xfrm>
          <a:prstGeom prst="wedgeEllipseCallout">
            <a:avLst>
              <a:gd name="adj1" fmla="val 21666"/>
              <a:gd name="adj2" fmla="val 551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ya 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9528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1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08120" y="1363680"/>
            <a:ext cx="523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295280"/>
            <a:ext cx="4038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e and Taylor fell in love from the very moment they layed eyes on each other. A little bit later, they got married and lived happily ever aft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l_fi" descr=""/>
          <p:cNvPicPr/>
          <p:nvPr/>
        </p:nvPicPr>
        <p:blipFill>
          <a:blip r:embed="rId1"/>
          <a:stretch/>
        </p:blipFill>
        <p:spPr>
          <a:xfrm>
            <a:off x="4800600" y="1523880"/>
            <a:ext cx="3962520" cy="36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gwild.net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orld’s coolest cast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3/13/12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oogle.com/imgres?q=castle&amp;hl=en&amp;safe=strict&amp;gbv=2&amp;biw=1024&amp;bih=533&amp;tbm=isch&amp;tbnid=oMVp4qVZ3eSwmM:&amp;imgrefurl=http://www.hogwild.net/Rants/castle-pictures-edinburgh-castle-ashford-castle-neuschwanstein-castle.htm&amp;docid=8JLquuO44soaWM&amp;imgurl=http://www.hogwild.net/images/Misc/castle-neuschwanstein-castle.jpg&amp;w=370&amp;h=370&amp;ei=lY9fT_vXCKqKsAKR3rCFCA&amp;zoom=1&amp;iact=hc&amp;vpx=752&amp;vpy=145&amp;dur=921&amp;hovh=225&amp;hovw=225&amp;tx=147&amp;ty=100&amp;sig=100501383441446942702&amp;page=1&amp;tbnh=161&amp;tbnw=161&amp;start=0&amp;ndsp=8&amp;ved=1t:429,r:3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,s: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umpysclipart.com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etty Princess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/13/12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chumpysclipart.com/illustration/3206/picture_of_a_pretty_princess_holding_a_handkerch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ppyworks.com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Ugly Prince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/13/12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guppyworks.com/hca_tupd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gspotphoto.com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artoon Married Coup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3/13/12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bigstockphoto.com/image-2230450/stock-vector-just-married!-(vector)-cartoon-illustration-of-a-wedding-couple-in-fair-skin-t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bucket.com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onely Girl, Images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3/21/12,  http://www.desibucket.com/tag/lonely-girl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airyta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4/5/12, www.freeplay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8:35:26Z</dcterms:created>
  <dc:creator>install</dc:creator>
  <dc:description/>
  <dc:language>en-US</dc:language>
  <cp:lastModifiedBy>install</cp:lastModifiedBy>
  <dcterms:modified xsi:type="dcterms:W3CDTF">2012-04-13T18:09:28Z</dcterms:modified>
  <cp:revision>9</cp:revision>
  <dc:subject/>
  <dc:title>Slide 1</dc:title>
</cp:coreProperties>
</file>